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E74D-636C-4660-AD4B-BDC21EB8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E37-F105-4F93-8709-6BC918B2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5A26-D38D-42B1-AC64-18A7FB87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9FAC-16E6-437C-BE1C-D1A6A06CD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5983B-A3D5-4FFE-AACE-21DA4B89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4B90-CB1E-4B1C-BA3C-1858BA568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37EC-C4CC-4972-97DB-E1C4BC91E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0B70-30AD-47C2-B806-3A53FD75F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3C34-F10E-4644-B551-A4A8D61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8A0-6C03-4A11-B939-D3000E51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22B5-7E8A-4355-938C-458F63EC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A2FFE-B203-48F8-940D-B1A448CF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D337-2FD1-420C-B8F2-5A430860D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whatwg.org/specs/web-apps/current-work/multipage/dnd.html" TargetMode="External"/><Relationship Id="rId2" Type="http://schemas.openxmlformats.org/officeDocument/2006/relationships/hyperlink" Target="https://datatracker.ietf.org/doc/draft-cbran-rtcweb-protocols/" TargetMode="External"/><Relationship Id="rId3" Type="http://schemas.openxmlformats.org/officeDocument/2006/relationships/hyperlink" Target="https://datatracker.ietf.org/doc/draft-alvestrand-rtcweb-overview/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Non-Media Data in RTCWE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WG chair’s discussion sl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Use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ynamic meta data for Conference and other real-tim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Gaming data with low latency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Derived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Unreliable transmi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ize limited by M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Fragmentation by the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Low latency, i.e. Peer to Peer prefer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Congestion Controlled, to be network frien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Secur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Confidenti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Integrity Protec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Source Authenti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Providing consent to receive data prior to allow transmission of substantial amounts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e consensu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On the mailing list there was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ne view is that general P2P non-media data transfer in the solution just is unneccessary complexities for the Real-time s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Others disagreed and supported non-media data in various way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Is there consensus for the need of a solution fulfilling the requirements on previous sli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Do we need Reliabl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Do we have need for a general solution that attempts to be P2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If NAT/FW traversal fails still fallback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Arial"/>
              </a:rPr>
              <a:t>Reliabel message or byte-stream can be built on top of unreliable dat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Java Script libra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Standardized solu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Arial"/>
              </a:rPr>
              <a:t>Go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Do we have interested parties to work on a solution for the W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Arial"/>
              </a:rPr>
              <a:t>Alternatives so far publicly propo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Ian Hickson’s Framing over UDP: </a:t>
            </a:r>
            <a:r>
              <a:rPr b="0" lang="sv-S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hatwg.org/specs/web-apps/current-work/multipage/dnd.html#the-data-str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TLS/DCCP/UDP: </a:t>
            </a:r>
            <a:r>
              <a:rPr b="0" lang="sv-SE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s://datatracker.ietf.org/doc/draft-cbran-rtcweb-protocol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000000"/>
                </a:solidFill>
                <a:latin typeface="Arial"/>
              </a:rPr>
              <a:t>Data over RTP/UDP: </a:t>
            </a:r>
            <a:r>
              <a:rPr b="0" lang="sv-SE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s://datatracker.ietf.org/doc/draft-alvestrand-rtcweb-overview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8:52:57Z</dcterms:created>
  <dc:creator>eramswd</dc:creator>
  <dc:description/>
  <dc:language>en-US</dc:language>
  <cp:lastModifiedBy>eramswd</cp:lastModifiedBy>
  <dcterms:modified xsi:type="dcterms:W3CDTF">2011-06-08T13:10:37Z</dcterms:modified>
  <cp:revision>8</cp:revision>
  <dc:subject/>
  <dc:title>Non-Media Data in RTCWEB</dc:title>
</cp:coreProperties>
</file>